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B15-94C4-445D-9F85-5132E721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6FB-D7D5-4D40-A7C4-42419E38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07E-06D1-4028-A10F-1B153668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C9B-7023-48F0-9A5C-E72E2E8A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B995-0F77-466E-BE78-CFA380C8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A673-E887-45D7-B299-3330A83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53A7-1C94-4187-B511-0BB4949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047E-4B27-4F34-A8E4-8F842D18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5698-621D-4CD1-A82F-2FF02380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E518-386B-4DD1-B15C-6D420F69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6330-4B1C-443C-ACB1-22D9EB6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882-76E8-446D-A41E-2EDFEAF8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E72-AFAC-462F-A62B-F41F1DD9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0F5E-FA70-42AF-BEED-6EBEAA45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02F3-3A38-43E9-BC0F-7B7B55F1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17C6-891D-40D5-A67B-3102CFBF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F719-5A3E-410D-86CA-01CB014B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97B-BBD6-49A2-9775-0835BB5B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F90-E2DC-42EB-A716-F6ABAE3B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FEF-791D-4470-A802-41A0700C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FAF-AFA2-4D2E-8565-90EB870F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DF1-B75A-4F11-85B4-A0A0B4A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276-4B7A-4562-9D0B-197CD13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7D2-C64C-47A8-866E-420C845D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8B03-14CD-43EB-8AC3-6383872DEA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9FDB-E5CE-4FCD-AD66-EAB6671ADA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adoption.com/adclick.php?bannerid=6545&amp;zoneid=530&amp;source=&amp;dest=http%3A%2F%2Fwww.adopthelp.co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doption in Canad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adop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ermanent legal transfer of parenting rights and responsibilities from one family to another.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ord adoption, however, has different meanings to the people touched by i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n adoptee, the word implies that a choice was made with the forming of his/her famil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n adoptive parent, it describes a parental relationship that was made legally, not biological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 birth parent, it recognizes the loss associated with giving up parental right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Are Children Adop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in the public child welfare system who are placed in permanent homes by public, government-operated agencies or by contracted private agencies.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vate agen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are placed in non-relative homes through the services of a licensed (non-profit or for-profit) agency.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are placed in relatives and non-relative homes directly by the birth parents or through the services of either a medical doctor, a member of the clergy, an attorney, or a licensed or unlicensed facilit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Kinshi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are placed in relatives' homes, with or without the services of a public agency.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teppa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are adopted by the spouse of one birth par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 are children being adopted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are being adopted because their birth parents were unable to care for th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option may be the result of the direct wishes of the birth parents (Want a better life than they can provide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lso may be the result of abuse or neglect, poverty and abandonment, or the death of the birth par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couples cannot have biological children due to infertilit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ational Adoption in Canada (200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ttp://www.sunriseadoption.com/articles/2006_adoption_statistic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 "/>
          <p:cNvPicPr/>
          <p:nvPr/>
        </p:nvPicPr>
        <p:blipFill>
          <a:blip r:embed="rId1"/>
          <a:stretch/>
        </p:blipFill>
        <p:spPr>
          <a:xfrm>
            <a:off x="1116000" y="2222640"/>
            <a:ext cx="29512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laining Adoption to Your Childr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me prefer to wait until children are older believing their understanding will be more complete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thers believe that a child should never remember a time when they didn't know about their adoption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 is important to remember that a child should not be told once about their adoption, but talked with throughout each of the stages of childhood development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key is to provide a comfortable, accepting atmosphere in which a child can communicate the questions they are thinking about and get the answers they are search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dopthelp_square01" descr="Click Here for More Inform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565360"/>
            <a:ext cx="3240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www.adoption.ca/glossary.ht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.sunriseadoption.com/articles/2006_adoption_stat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library.adoption.com/articles/explaining-adoption-to-your-children-family-and-friends,4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9:29Z</dcterms:created>
  <dc:creator>dino</dc:creator>
  <dc:description/>
  <dc:language>en-US</dc:language>
  <cp:lastModifiedBy>dino</cp:lastModifiedBy>
  <dcterms:modified xsi:type="dcterms:W3CDTF">2011-01-17T01:40:02Z</dcterms:modified>
  <cp:revision>4</cp:revision>
  <dc:subject/>
  <dc:title>Adoption in Canada</dc:title>
</cp:coreProperties>
</file>